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C8D-76A5-49FC-9A06-F526DE35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82E-A570-4223-BB38-91A198D9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07B-F15B-49D2-B68B-8BE6BF7D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D01-B2C5-4D82-9891-678394C3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7581-5FEE-49BD-9665-09CF20FA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E77-9990-4D34-9332-70FBC45B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E500-E530-425E-8DE6-8E814213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078F-D193-4233-9650-68BC4744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E71-75DD-4BDE-8258-2BA751CB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72D8-4BDA-4DFA-BD17-B102D721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76B-C8B1-4924-ACAE-89AF82B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5E9-59DE-46B7-B507-9C1D3EDB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3B35-4AE2-48EE-AACE-5F59134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FC9-3FA1-4EF0-BA6B-8356DAA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40FC-B813-4746-9E65-773A4719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3CB8-3448-487A-B5BA-298934D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8EAB-FA7F-47F5-A3F9-736F3183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26C-DB2C-4B8F-AC83-30EC5D49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9F7-20DC-4B16-B315-D5C7B1B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BEE-4D2A-4DCD-B5A6-DD69D83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763-9828-41BC-AEF8-1C470D6A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C91-C902-47CD-B7EC-39ECB85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CC0-DEF7-4239-B10A-1169F94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D1A-34AB-481D-9795-40118896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68E75-DF47-44BD-A153-C2BE82B0D27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5311-2F28-4E3C-A703-D3B0032CACF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90B15-4B2D-4527-8031-F4FD120BD10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63F46-8EC4-4F38-A787-7D94FF1FE59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hEHQUMEkXw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eography.about.com/od/physicalgeography/a/rivers.htm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rosion Lab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Demetria Henderson &amp; Noelle Van E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gag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http://www.youtube.com/watch?v=ChEHQUMEkX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k students to describe what is happening in the time-lapse video. What is changing, what is causing the changes?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o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84800" y="1600200"/>
            <a:ext cx="340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am table experiment: Students will make predictions about how erosional pattern will change with inclin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changes do students notice occurring as the slope of the stream table is varied?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9" name="Picture 7" descr="streamtable.jpg"/>
          <p:cNvPicPr/>
          <p:nvPr/>
        </p:nvPicPr>
        <p:blipFill>
          <a:blip r:embed="rId2"/>
          <a:stretch/>
        </p:blipFill>
        <p:spPr>
          <a:xfrm>
            <a:off x="60336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lan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09680" y="1600200"/>
            <a:ext cx="377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Rivers from Source to Sea” </a:t>
            </a:r>
            <a:r>
              <a:rPr b="0" lang="en-US" sz="19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http://geography.about.com/od/physicalgeography/a/rivers.ht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agents make sediment move? Which ones did we investigate with our experiment? What forces cause sediment to resist movement? 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en shown a picture of a river, can students predict where the picture was taken with respect to the mountains (source) or sea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3" descr="V-shaped.jpg"/>
          <p:cNvPicPr/>
          <p:nvPr/>
        </p:nvPicPr>
        <p:blipFill>
          <a:blip r:embed="rId3"/>
          <a:stretch/>
        </p:blipFill>
        <p:spPr>
          <a:xfrm>
            <a:off x="1287360" y="1600200"/>
            <a:ext cx="3130560" cy="234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meandering-river.jpg"/>
          <p:cNvPicPr/>
          <p:nvPr/>
        </p:nvPicPr>
        <p:blipFill>
          <a:blip r:embed="rId4"/>
          <a:stretch/>
        </p:blipFill>
        <p:spPr>
          <a:xfrm>
            <a:off x="1733400" y="4275000"/>
            <a:ext cx="23288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abo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5760" y="1600200"/>
            <a:ext cx="373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late this lab to future labs on landforms. Why are deltas formed? Deltas are formed from erosion and deposition by river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 did the sediment from the top of our experimental box go? What is the correct name for that deposit?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kenai-river-delta_1958.jpg"/>
          <p:cNvPicPr/>
          <p:nvPr/>
        </p:nvPicPr>
        <p:blipFill>
          <a:blip r:embed="rId2"/>
          <a:stretch/>
        </p:blipFill>
        <p:spPr>
          <a:xfrm>
            <a:off x="193680" y="1814400"/>
            <a:ext cx="4754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ten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students make predictions about where different sizes of sediment would be deposited if we used a mixture of large and small grain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8:49:44Z</dcterms:created>
  <dc:creator>Noelle Van Ee</dc:creator>
  <dc:description/>
  <dc:language>en-US</dc:language>
  <cp:lastModifiedBy>Noelle Van Ee</cp:lastModifiedBy>
  <dcterms:modified xsi:type="dcterms:W3CDTF">2011-06-22T19:26:08Z</dcterms:modified>
  <cp:revision>2</cp:revision>
  <dc:subject/>
  <dc:title>Erosion Lab</dc:title>
</cp:coreProperties>
</file>